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85C2-7956-4320-BA6B-175C8AF8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31F-6182-4985-A544-A0E49433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14E-EC05-4058-A02E-2DF6A6E8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AC5F-E70D-4204-8080-54CF787E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3E48-5739-4B76-9DDC-36EF3866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6073-178F-4797-BDB6-6FBE789C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799B-4983-4599-ADEE-71E6A4A5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3889-6ABF-4827-A1E3-9B3AFE07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8F15-6E05-483E-9206-C040E170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2542-22CE-43EF-8AE2-7AD88172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B002-B3E5-47DB-B131-62779422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6A9-47D8-42DA-B759-DEB4D913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2619-9000-4913-A9D1-3A5C38F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9FB8-FDB7-4AF3-A213-6258378A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DFCA-2091-4432-A1DD-B84411DD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F937-3C4E-41DF-B31C-2E10CCE8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C34A-BE6E-4687-8E0E-3FA3DCF3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B90-3870-4885-8731-866826BA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8EA-D9D4-4E4A-8D42-664099FF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35C-BEC0-4296-A533-D3F61558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3F1-18F7-4401-A97C-EC1EADCC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B4F-23D2-40C1-B87D-41C17F2D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CDD-EE16-4598-846C-997FF0A4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1E3-1503-4298-919E-701D694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9202-E1FA-40BE-B4B9-27AC60DA0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548B-DEBE-4097-82A5-F5DF8BA65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, Art, and Heart of </a:t>
            </a: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eaching Reading 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clear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hat you expect = What you get.”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 desired behavior and ef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tch them being good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He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s of excellence have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ep knowledge that they make a difference in academics and behavior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husia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program/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i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aci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hildre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He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ach with pa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 with compa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lbany School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August 2006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ta L. Archer,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erteach@a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-base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-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atic, Intentional, Explicit, Robu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 in instruction (Skill or strategy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do i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 skill or strateg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o i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uide performance of strateg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do i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eck understand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s in instruction (Concept or vocabul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e th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student-friendly expla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e with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understanding with examples and non-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Research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cit responses from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arning is not a spectator sport.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atically correct any errors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 to maste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n’t leave students overexposed and underdevelope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and adj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and adju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i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ruction and practice in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 and adj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ment through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y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nd maintain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 “perky pa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lose proxim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with your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t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ile, n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ir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humor and de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with enthusia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The Ar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the behaviors that you exp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Don’t commit assumicide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rrect before challenges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Anticipate and remove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7869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ctive, engaging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oid the void…for they will fill i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21:39:34Z</dcterms:created>
  <dc:creator>Archer Anita</dc:creator>
  <dc:description/>
  <dc:language>en-US</dc:language>
  <cp:lastModifiedBy>esims</cp:lastModifiedBy>
  <dcterms:modified xsi:type="dcterms:W3CDTF">2006-09-28T15:23:29Z</dcterms:modified>
  <cp:revision>16</cp:revision>
  <dc:subject/>
  <dc:title>  The Research, Art, and Heart of  Teaching</dc:title>
</cp:coreProperties>
</file>